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794320" y="87105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35EF5EE3-258A-4F13-910D-28852EF747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reference book on legal issues for science teac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6450-E88B-4D43-854F-D51ED9AC1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BF7F-144F-4FA0-B1E3-9953FA7B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124A-A0E4-47D0-8988-6FE051E6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A196-5A93-4CA0-9010-E156280E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3347-56A2-4369-BD61-AC7F377B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AD0E-84A8-4DB5-BD25-957B4509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F4F6-A697-4053-B7F0-F5995C2A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B3DB-0D5E-469C-BA3A-89C77683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AE2E-266C-47AA-B133-E2EDC345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2323-8A40-4FD2-B8C1-6189061E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1EC9-DA8E-42A5-AA2F-FA573AAC1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EE87-9FB7-4463-BCFE-5A6E0D86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3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42"/>
            <p:cNvGrpSpPr/>
            <p:nvPr/>
          </p:nvGrpSpPr>
          <p:grpSpPr>
            <a:xfrm>
              <a:off x="0" y="95400"/>
              <a:ext cx="9132840" cy="6610320"/>
              <a:chOff x="0" y="95400"/>
              <a:chExt cx="9132840" cy="6610320"/>
            </a:xfrm>
          </p:grpSpPr>
          <p:sp>
            <p:nvSpPr>
              <p:cNvPr id="3" name="Rectangle 3"/>
              <p:cNvSpPr/>
              <p:nvPr/>
            </p:nvSpPr>
            <p:spPr>
              <a:xfrm>
                <a:off x="0" y="95400"/>
                <a:ext cx="9132840" cy="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Rectangle 4"/>
              <p:cNvSpPr/>
              <p:nvPr/>
            </p:nvSpPr>
            <p:spPr>
              <a:xfrm>
                <a:off x="0" y="266760"/>
                <a:ext cx="9132840" cy="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Rectangle 5"/>
              <p:cNvSpPr/>
              <p:nvPr/>
            </p:nvSpPr>
            <p:spPr>
              <a:xfrm>
                <a:off x="0" y="438120"/>
                <a:ext cx="9132840" cy="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Rectangle 6"/>
              <p:cNvSpPr/>
              <p:nvPr/>
            </p:nvSpPr>
            <p:spPr>
              <a:xfrm>
                <a:off x="0" y="609480"/>
                <a:ext cx="9132840" cy="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Rectangle 7"/>
              <p:cNvSpPr/>
              <p:nvPr/>
            </p:nvSpPr>
            <p:spPr>
              <a:xfrm>
                <a:off x="0" y="781200"/>
                <a:ext cx="9132840" cy="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Rectangle 8"/>
              <p:cNvSpPr/>
              <p:nvPr/>
            </p:nvSpPr>
            <p:spPr>
              <a:xfrm>
                <a:off x="0" y="952560"/>
                <a:ext cx="9132840" cy="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Rectangle 9"/>
              <p:cNvSpPr/>
              <p:nvPr/>
            </p:nvSpPr>
            <p:spPr>
              <a:xfrm>
                <a:off x="0" y="1123920"/>
                <a:ext cx="9132840" cy="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Rectangle 10"/>
              <p:cNvSpPr/>
              <p:nvPr/>
            </p:nvSpPr>
            <p:spPr>
              <a:xfrm>
                <a:off x="0" y="1295280"/>
                <a:ext cx="9132840" cy="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Rectangle 11"/>
              <p:cNvSpPr/>
              <p:nvPr/>
            </p:nvSpPr>
            <p:spPr>
              <a:xfrm>
                <a:off x="0" y="1467000"/>
                <a:ext cx="9132840" cy="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Rectangle 12"/>
              <p:cNvSpPr/>
              <p:nvPr/>
            </p:nvSpPr>
            <p:spPr>
              <a:xfrm>
                <a:off x="0" y="1638360"/>
                <a:ext cx="9132840" cy="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Rectangle 13"/>
              <p:cNvSpPr/>
              <p:nvPr/>
            </p:nvSpPr>
            <p:spPr>
              <a:xfrm>
                <a:off x="0" y="1809720"/>
                <a:ext cx="9132840" cy="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Rectangle 14"/>
              <p:cNvSpPr/>
              <p:nvPr/>
            </p:nvSpPr>
            <p:spPr>
              <a:xfrm>
                <a:off x="0" y="1981080"/>
                <a:ext cx="9132840" cy="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Rectangle 15"/>
              <p:cNvSpPr/>
              <p:nvPr/>
            </p:nvSpPr>
            <p:spPr>
              <a:xfrm>
                <a:off x="0" y="2152800"/>
                <a:ext cx="9132840" cy="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Rectangle 16"/>
              <p:cNvSpPr/>
              <p:nvPr/>
            </p:nvSpPr>
            <p:spPr>
              <a:xfrm>
                <a:off x="0" y="2324160"/>
                <a:ext cx="9132840" cy="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Rectangle 17"/>
              <p:cNvSpPr/>
              <p:nvPr/>
            </p:nvSpPr>
            <p:spPr>
              <a:xfrm>
                <a:off x="0" y="2495520"/>
                <a:ext cx="9132840" cy="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Rectangle 18"/>
              <p:cNvSpPr/>
              <p:nvPr/>
            </p:nvSpPr>
            <p:spPr>
              <a:xfrm>
                <a:off x="0" y="2666880"/>
                <a:ext cx="9132840" cy="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Rectangle 19"/>
              <p:cNvSpPr/>
              <p:nvPr/>
            </p:nvSpPr>
            <p:spPr>
              <a:xfrm>
                <a:off x="0" y="2838600"/>
                <a:ext cx="9132840" cy="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Rectangle 20"/>
              <p:cNvSpPr/>
              <p:nvPr/>
            </p:nvSpPr>
            <p:spPr>
              <a:xfrm>
                <a:off x="0" y="3009960"/>
                <a:ext cx="9132840" cy="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Rectangle 21"/>
              <p:cNvSpPr/>
              <p:nvPr/>
            </p:nvSpPr>
            <p:spPr>
              <a:xfrm>
                <a:off x="0" y="3181320"/>
                <a:ext cx="9132840" cy="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Rectangle 22"/>
              <p:cNvSpPr/>
              <p:nvPr/>
            </p:nvSpPr>
            <p:spPr>
              <a:xfrm>
                <a:off x="0" y="3352680"/>
                <a:ext cx="9132840" cy="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Rectangle 23"/>
              <p:cNvSpPr/>
              <p:nvPr/>
            </p:nvSpPr>
            <p:spPr>
              <a:xfrm>
                <a:off x="0" y="3524400"/>
                <a:ext cx="9132840" cy="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Rectangle 24"/>
              <p:cNvSpPr/>
              <p:nvPr/>
            </p:nvSpPr>
            <p:spPr>
              <a:xfrm>
                <a:off x="0" y="3695760"/>
                <a:ext cx="9132840" cy="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Rectangle 25"/>
              <p:cNvSpPr/>
              <p:nvPr/>
            </p:nvSpPr>
            <p:spPr>
              <a:xfrm>
                <a:off x="0" y="3867120"/>
                <a:ext cx="9132840" cy="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Rectangle 26"/>
              <p:cNvSpPr/>
              <p:nvPr/>
            </p:nvSpPr>
            <p:spPr>
              <a:xfrm>
                <a:off x="0" y="4038480"/>
                <a:ext cx="9132840" cy="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Rectangle 27"/>
              <p:cNvSpPr/>
              <p:nvPr/>
            </p:nvSpPr>
            <p:spPr>
              <a:xfrm>
                <a:off x="0" y="4210200"/>
                <a:ext cx="9132840" cy="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Rectangle 28"/>
              <p:cNvSpPr/>
              <p:nvPr/>
            </p:nvSpPr>
            <p:spPr>
              <a:xfrm>
                <a:off x="0" y="4381560"/>
                <a:ext cx="9132840" cy="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Rectangle 29"/>
              <p:cNvSpPr/>
              <p:nvPr/>
            </p:nvSpPr>
            <p:spPr>
              <a:xfrm>
                <a:off x="0" y="4552920"/>
                <a:ext cx="9132840" cy="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Rectangle 30"/>
              <p:cNvSpPr/>
              <p:nvPr/>
            </p:nvSpPr>
            <p:spPr>
              <a:xfrm>
                <a:off x="0" y="4724280"/>
                <a:ext cx="9132840" cy="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Rectangle 31"/>
              <p:cNvSpPr/>
              <p:nvPr/>
            </p:nvSpPr>
            <p:spPr>
              <a:xfrm>
                <a:off x="0" y="4896000"/>
                <a:ext cx="9132840" cy="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Rectangle 32"/>
              <p:cNvSpPr/>
              <p:nvPr/>
            </p:nvSpPr>
            <p:spPr>
              <a:xfrm>
                <a:off x="0" y="5067360"/>
                <a:ext cx="9132840" cy="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Rectangle 33"/>
              <p:cNvSpPr/>
              <p:nvPr/>
            </p:nvSpPr>
            <p:spPr>
              <a:xfrm>
                <a:off x="0" y="5238720"/>
                <a:ext cx="9132840" cy="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Rectangle 34"/>
              <p:cNvSpPr/>
              <p:nvPr/>
            </p:nvSpPr>
            <p:spPr>
              <a:xfrm>
                <a:off x="0" y="5410080"/>
                <a:ext cx="9132840" cy="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Rectangle 35"/>
              <p:cNvSpPr/>
              <p:nvPr/>
            </p:nvSpPr>
            <p:spPr>
              <a:xfrm>
                <a:off x="0" y="5581800"/>
                <a:ext cx="9132840" cy="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Rectangle 36"/>
              <p:cNvSpPr/>
              <p:nvPr/>
            </p:nvSpPr>
            <p:spPr>
              <a:xfrm>
                <a:off x="0" y="5753160"/>
                <a:ext cx="9132840" cy="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Rectangle 37"/>
              <p:cNvSpPr/>
              <p:nvPr/>
            </p:nvSpPr>
            <p:spPr>
              <a:xfrm>
                <a:off x="0" y="5924520"/>
                <a:ext cx="9132840" cy="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Rectangle 38"/>
              <p:cNvSpPr/>
              <p:nvPr/>
            </p:nvSpPr>
            <p:spPr>
              <a:xfrm>
                <a:off x="0" y="6095880"/>
                <a:ext cx="9132840" cy="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Rectangle 39"/>
              <p:cNvSpPr/>
              <p:nvPr/>
            </p:nvSpPr>
            <p:spPr>
              <a:xfrm>
                <a:off x="0" y="6267600"/>
                <a:ext cx="9132840" cy="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Rectangle 40"/>
              <p:cNvSpPr/>
              <p:nvPr/>
            </p:nvSpPr>
            <p:spPr>
              <a:xfrm>
                <a:off x="0" y="6438960"/>
                <a:ext cx="9132840" cy="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Rectangle 41"/>
              <p:cNvSpPr/>
              <p:nvPr/>
            </p:nvSpPr>
            <p:spPr>
              <a:xfrm>
                <a:off x="0" y="6610320"/>
                <a:ext cx="9132840" cy="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f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fcf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71B0-FAED-4B61-BFDF-53A80F798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ce Teaching  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nd the Law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3552840" y="3405240"/>
            <a:ext cx="553392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urriculum and Practic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achers ar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egally obligated to teach the curriculu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et by the local school board and state board of educ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o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you teach the curriculum is flexibl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675"/>
              </a:spcBef>
              <a:spcAft>
                <a:spcPts val="675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cific formats may be required for “delicate” topic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achers must not discriminate or stigmatize student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achers must be aware of all legal requirement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unds and Equipmen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1199"/>
              </a:spcBef>
              <a:spcAft>
                <a:spcPts val="2999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cument, document, documen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901"/>
              </a:spcBef>
              <a:spcAft>
                <a:spcPts val="2251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lected fu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901"/>
              </a:spcBef>
              <a:spcAft>
                <a:spcPts val="2251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equip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901"/>
              </a:spcBef>
              <a:spcAft>
                <a:spcPts val="2251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personal items and purcha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Hot-Button Issu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are significant areas of public controvers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x, alcohol and drug abu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olution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imals research and dissec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vironmental advocac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achers should consult the school administration for policies relating to these area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o ahead and tea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he topic, if allow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 sensitive to concern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ersonal Liability Situation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5000"/>
              </a:lnSpc>
              <a:spcBef>
                <a:spcPts val="1049"/>
              </a:spcBef>
              <a:spcAft>
                <a:spcPts val="1925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ly interact with students in your official capacity as teache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5000"/>
              </a:lnSpc>
              <a:spcBef>
                <a:spcPts val="675"/>
              </a:spcBef>
              <a:spcAft>
                <a:spcPts val="1239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n’t send a student to perform personal errand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5000"/>
              </a:lnSpc>
              <a:spcBef>
                <a:spcPts val="675"/>
              </a:spcBef>
              <a:spcAft>
                <a:spcPts val="1239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 not attempt to handle difficult personal issues on your own   (for example, a suicidal student)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5000"/>
              </a:lnSpc>
              <a:spcBef>
                <a:spcPts val="675"/>
              </a:spcBef>
              <a:spcAft>
                <a:spcPts val="1239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ider off-campus contact very carefully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5000"/>
              </a:lnSpc>
              <a:spcBef>
                <a:spcPts val="1049"/>
              </a:spcBef>
              <a:spcAft>
                <a:spcPts val="1925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ver put yourself in a potentially litigious situation (behind closed doors)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4678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aking Positive Act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700"/>
              </a:spcBef>
              <a:spcAft>
                <a:spcPts val="1400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 proactive, not reac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451"/>
              </a:spcBef>
              <a:spcAft>
                <a:spcPts val="901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void even th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ppearanc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f impropriety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spcAft>
                <a:spcPts val="1199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now your rights and limitations, and make use of this informatio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you get into troubl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049"/>
              </a:spcBef>
              <a:spcAft>
                <a:spcPts val="1400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rry liability insuranc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675"/>
              </a:spcBef>
              <a:spcAft>
                <a:spcPts val="901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U student chapter of NEA provides $1M insurance with $35 annual membershi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675"/>
              </a:spcBef>
              <a:spcAft>
                <a:spcPts val="901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y teacher organizations (NSTA, NABT) offer inexpensive policies (&lt;$100/year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ords of Wisdom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rom the NS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2895480" y="2286000"/>
            <a:ext cx="306864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laimer: I’m not a lawyer, so I can’t give legal advice. But I can suggest that you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676520" y="3657600"/>
            <a:ext cx="5600520" cy="2733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5000"/>
              </a:lnSpc>
              <a:spcBef>
                <a:spcPts val="1049"/>
              </a:spcBef>
              <a:spcAft>
                <a:spcPts val="1400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rry liability insuran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1049"/>
              </a:spcBef>
              <a:spcAft>
                <a:spcPts val="1400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d your school/district’s policy manual carefull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wo Types of Liability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iminal -- breaking the la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fcf3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llful and wanton miscondu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fcf305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ntional,</a:t>
            </a:r>
            <a:r>
              <a:rPr b="1" lang="en-US" sz="2000" spc="-1" strike="noStrike">
                <a:solidFill>
                  <a:srgbClr val="fcf305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fcf305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kless disregard for the safety of oth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0">
              <a:lnSpc>
                <a:spcPct val="90000"/>
              </a:lnSpc>
              <a:spcBef>
                <a:spcPts val="451"/>
              </a:spcBef>
              <a:spcAft>
                <a:spcPts val="337"/>
              </a:spcAft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rt -- violating professional standa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fcf3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gligent condu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fcf305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ilure to ac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fcf305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ilure to use ‘common sense’ (foreseeabilit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1676520"/>
            <a:ext cx="792504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t’s the difference between being arrested and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eing sued.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gligence is a failure to exercise the degree of care which a prudent professional or an intelligent layperson would exercise under similar conditions. 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ottom-Line Liability Issu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Yo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re responsible for student safet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ysical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motional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districts are subdivisions of the state an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nno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be held entirely liable for injuri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school boards protect teachers from legal liabi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ability can result from non-science issu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eld trips, errands, transporting pupils in ca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riety issu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9907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hat are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most comm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oncerns for teachers?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#1: Ensuring Student Safet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901"/>
              </a:spcBef>
              <a:spcAft>
                <a:spcPts val="1199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achers must ensure students’ classroom safet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675"/>
              </a:spcBef>
              <a:spcAft>
                <a:spcPts val="901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llowing fire and disaster regulation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675"/>
              </a:spcBef>
              <a:spcAft>
                <a:spcPts val="901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forcing acceptable behavi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spcAft>
                <a:spcPts val="1199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ience teachers have additional concern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675"/>
              </a:spcBef>
              <a:spcAft>
                <a:spcPts val="901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ience materi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675"/>
              </a:spcBef>
              <a:spcAft>
                <a:spcPts val="901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assroom safety equipmen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675"/>
              </a:spcBef>
              <a:spcAft>
                <a:spcPts val="901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lanning and safety instru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l Illinois teachers ar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Mandated Reporter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for child abuse.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360" y="2286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5000"/>
              </a:lnSpc>
              <a:spcBef>
                <a:spcPts val="901"/>
              </a:spcBef>
              <a:spcAft>
                <a:spcPts val="300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use and negl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901"/>
              </a:spcBef>
              <a:spcAft>
                <a:spcPts val="300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rass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05000"/>
              </a:lnSpc>
              <a:spcBef>
                <a:spcPts val="675"/>
              </a:spcBef>
              <a:spcAft>
                <a:spcPts val="224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xual, religious, racial, cultural, gender prefere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901"/>
              </a:spcBef>
              <a:spcAft>
                <a:spcPts val="300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apons and alcohol abu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5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901"/>
              </a:spcBef>
              <a:spcAft>
                <a:spcPts val="300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sonable cause for suspicion is all that’s required, but there is a specific legal procedur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6T20:08:06Z</dcterms:created>
  <dc:creator>Physics Department</dc:creator>
  <dc:description/>
  <dc:language>en-US</dc:language>
  <cp:lastModifiedBy>Cynthia J. Moore</cp:lastModifiedBy>
  <dcterms:modified xsi:type="dcterms:W3CDTF">2011-03-29T19:08:07Z</dcterms:modified>
  <cp:revision>46</cp:revision>
  <dc:subject/>
  <dc:title>PowerPoint Presentation  -  Science Teaching   and the Law</dc:title>
</cp:coreProperties>
</file>